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DC47B-620D-46B4-BED4-7A3690B1E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69D3B-41D0-4D3A-B041-67C1B00D9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54588-5206-4B50-9230-B5549F10B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2FD47-5D5E-466F-8BB0-57656C199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5321B-29BC-41D9-A546-25AE90EAD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0DE88-5D3E-4594-8A8C-FF981EC9D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7B474-5CC1-46BA-A9DD-E0CF5BCA8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2AA88-02C1-47BF-BACC-61D235812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BFDFE-DE14-42D7-96FC-8DCEB48E6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57662-5F38-4B2B-BFD3-47913E0B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C94A7-4F51-4A6E-AC50-F99472C18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24D1F-8F49-486F-B656-F231F2802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D091-BACF-4381-B05F-ABAACD3EC4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4724280" y="304920"/>
            <a:ext cx="3934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esiunea iunie - iuli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advTm="5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cc00"/>
            </a:gs>
            <a:gs pos="100000">
              <a:srgbClr val="cc00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transition advTm="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transition advTm="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s14b2</cp:lastModifiedBy>
  <dcterms:modified xsi:type="dcterms:W3CDTF">2012-06-18T10:40:32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